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EEF3-BCA7-453D-9253-D63510D5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446-4D8C-44B4-8080-C27E08D4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2C9-AE0C-4023-90A3-35825EDC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2FB7-CCFA-4EF3-86AF-A319C539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F57-00F3-46F9-BA9D-118E94C7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9C6-8681-487F-864E-41C4F114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4C4E-62E3-40D6-B156-83D4AC4D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1EDF-F7BB-4FFF-9934-8C51EC51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E6E-B036-4583-8FB7-7F7B3F01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935-FF1A-4C92-AA8F-F5D1F342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F46-15B6-47A1-8E36-887985D0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85F4-8015-4B6C-910B-191031ED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F4BB-6684-4C82-A8DC-D5C1EE34471D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bf1"/>
                </a:solidFill>
                <a:latin typeface="Arial"/>
              </a:rPr>
              <a:t>Causes of WW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55640" y="-27000"/>
            <a:ext cx="73803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CA" sz="4400" spc="-1" strike="noStrike">
                <a:solidFill>
                  <a:srgbClr val="e3ebf1"/>
                </a:solidFill>
                <a:latin typeface="Arial"/>
              </a:rPr>
              <a:t>ssassin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park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that started WW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On June 28, 191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hduke Franz Ferdinand, heir to the Austria Hungarian Throne was assassinated by Gavrilo Princip, a Serbian nationalist who believed that Bosnia should belong to Se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3ebf1"/>
                </a:solidFill>
                <a:latin typeface="Arial"/>
              </a:rPr>
              <a:t>Archduke Franz Ferdinand and Duchess Sophie at Sarajevo, Bosnia, on June 28, 1914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1403280" y="38160"/>
            <a:ext cx="648036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Gavrilo Princip after his assassination of Austrian Archduke Franz Ferdin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11" descr="Assassination-Princips Caught"/>
          <p:cNvPicPr/>
          <p:nvPr/>
        </p:nvPicPr>
        <p:blipFill>
          <a:blip r:embed="rId1"/>
          <a:srcRect l="4385" t="4107" r="2444" b="10959"/>
          <a:stretch/>
        </p:blipFill>
        <p:spPr>
          <a:xfrm>
            <a:off x="312840" y="404640"/>
            <a:ext cx="4114800" cy="32925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83" name="Picture 13" descr="Gavrilo Princip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335560" y="3809880"/>
            <a:ext cx="3124080" cy="3048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84" name="Line 14"/>
          <p:cNvSpPr/>
          <p:nvPr/>
        </p:nvSpPr>
        <p:spPr>
          <a:xfrm>
            <a:off x="3780000" y="1628640"/>
            <a:ext cx="2304720" cy="2952720"/>
          </a:xfrm>
          <a:prstGeom prst="line">
            <a:avLst/>
          </a:prstGeom>
          <a:ln cap="sq" w="57240">
            <a:solidFill>
              <a:srgbClr val="e61f0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rcRect l="0" t="20472" r="0" b="24662"/>
          <a:stretch/>
        </p:blipFill>
        <p:spPr>
          <a:xfrm>
            <a:off x="0" y="387360"/>
            <a:ext cx="9144000" cy="606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rcRect l="11240" t="0" r="17111" b="0"/>
          <a:stretch/>
        </p:blipFill>
        <p:spPr>
          <a:xfrm>
            <a:off x="3527280" y="2004840"/>
            <a:ext cx="613080" cy="919440"/>
          </a:xfrm>
          <a:prstGeom prst="rect">
            <a:avLst/>
          </a:prstGeom>
          <a:ln w="0">
            <a:noFill/>
          </a:ln>
        </p:spPr>
      </p:pic>
      <p:sp>
        <p:nvSpPr>
          <p:cNvPr id="87" name="Line 6"/>
          <p:cNvSpPr/>
          <p:nvPr/>
        </p:nvSpPr>
        <p:spPr>
          <a:xfrm>
            <a:off x="3851280" y="2924280"/>
            <a:ext cx="990720" cy="2666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98844E-006 L 0.10816 0.42151 E">
                                      <p:cBhvr>
                                        <p:cTn id="100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13399" t="8394" r="12981" b="17930"/>
          <a:stretch/>
        </p:blipFill>
        <p:spPr>
          <a:xfrm>
            <a:off x="-36360" y="-27000"/>
            <a:ext cx="9180360" cy="6886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rcRect l="11240" t="0" r="17111" b="0"/>
          <a:stretch/>
        </p:blipFill>
        <p:spPr>
          <a:xfrm>
            <a:off x="3708360" y="2421000"/>
            <a:ext cx="612720" cy="919080"/>
          </a:xfrm>
          <a:prstGeom prst="rect">
            <a:avLst/>
          </a:prstGeom>
          <a:ln w="0">
            <a:noFill/>
          </a:ln>
        </p:spPr>
      </p:pic>
      <p:sp>
        <p:nvSpPr>
          <p:cNvPr id="90" name="Line 7"/>
          <p:cNvSpPr/>
          <p:nvPr/>
        </p:nvSpPr>
        <p:spPr>
          <a:xfrm>
            <a:off x="4284720" y="3357720"/>
            <a:ext cx="485640" cy="792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98844E-006 L 0.10816 0.42151 E">
                                      <p:cBhvr>
                                        <p:cTn id="114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bf1"/>
                </a:solidFill>
                <a:latin typeface="Arial"/>
              </a:rPr>
              <a:t>The Point of No Retur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tria blamed Serbia for Ferdinand’s death and declared war on Serb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y pledged their support for Austria -Hung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ssia pledged their support for Serbi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284720" y="27082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4284720" y="41194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4267080" y="55594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218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ermany declares war on Rus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rance pledges their support for Rus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ermany declares war on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ermany invades Belgium on the way to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reat Britain supports Belgium and declares war on Ger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4267080" y="950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4267080" y="19890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4267080" y="306864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4267080" y="440856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WI Allianc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Great Brit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us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tria 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bf1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http://www.thecorner.org/hist/wwi/colonial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Arial"/>
              </a:rPr>
              <a:t>http://www.mrberlin.com/8th/WWI/World_War_I_causes.ppt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Arial"/>
              </a:rPr>
              <a:t>http://www.msroachesplace.com/causes1.ppt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bf1"/>
                </a:solidFill>
                <a:latin typeface="Arial"/>
              </a:rPr>
              <a:t>Causes of WWI - </a:t>
            </a:r>
            <a:r>
              <a:rPr b="1" lang="en-CA" sz="4400" spc="-1" strike="noStrike">
                <a:solidFill>
                  <a:srgbClr val="ffff00"/>
                </a:solidFill>
                <a:latin typeface="Arial"/>
              </a:rPr>
              <a:t>MAN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litar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lli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tion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peri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sassin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CA" sz="4400" spc="-1" strike="noStrike">
                <a:solidFill>
                  <a:srgbClr val="e3ebf1"/>
                </a:solidFill>
                <a:latin typeface="Arial"/>
              </a:rPr>
              <a:t>ilitaris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When a natio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 armed forces come to dominate a country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 national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It is also a glorification of the military and war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4000" y="3500280"/>
          <a:ext cx="8362800" cy="3273480"/>
        </p:xfrm>
        <a:graphic>
          <a:graphicData uri="http://schemas.openxmlformats.org/drawingml/2006/table">
            <a:tbl>
              <a:tblPr/>
              <a:tblGrid>
                <a:gridCol w="2508120"/>
                <a:gridCol w="5854680"/>
              </a:tblGrid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910-1914 Increase in Defense Expenditu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Brit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Russ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rman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7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CA" sz="4400" spc="-1" strike="noStrike">
                <a:solidFill>
                  <a:srgbClr val="e3ebf1"/>
                </a:solidFill>
                <a:latin typeface="Arial"/>
              </a:rPr>
              <a:t>llianc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igned treaties in which each nation involved pledges to defend the other if attacked by an aggr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asically, countries agreed to help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rcRect l="13399" t="8394" r="12981" b="17930"/>
          <a:stretch/>
        </p:blipFill>
        <p:spPr>
          <a:xfrm>
            <a:off x="-36360" y="-27000"/>
            <a:ext cx="91803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CA" sz="4400" spc="-1" strike="noStrike">
                <a:solidFill>
                  <a:srgbClr val="e3ebf1"/>
                </a:solidFill>
                <a:latin typeface="Arial"/>
              </a:rPr>
              <a:t>lliances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1" name="Picture 4" descr="france_large"/>
          <p:cNvPicPr/>
          <p:nvPr/>
        </p:nvPicPr>
        <p:blipFill>
          <a:blip r:embed="rId1"/>
          <a:stretch/>
        </p:blipFill>
        <p:spPr>
          <a:xfrm>
            <a:off x="1081080" y="377496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russia_large"/>
          <p:cNvPicPr/>
          <p:nvPr/>
        </p:nvPicPr>
        <p:blipFill>
          <a:blip r:embed="rId2"/>
          <a:stretch/>
        </p:blipFill>
        <p:spPr>
          <a:xfrm>
            <a:off x="1081080" y="552780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unitedkingdom_medium"/>
          <p:cNvPicPr/>
          <p:nvPr/>
        </p:nvPicPr>
        <p:blipFill>
          <a:blip r:embed="rId3"/>
          <a:stretch/>
        </p:blipFill>
        <p:spPr>
          <a:xfrm>
            <a:off x="1081080" y="1870200"/>
            <a:ext cx="198108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arms"/>
          <p:cNvPicPr/>
          <p:nvPr/>
        </p:nvPicPr>
        <p:blipFill>
          <a:blip r:embed="rId4"/>
          <a:srcRect l="1617" t="0" r="1617" b="0"/>
          <a:stretch/>
        </p:blipFill>
        <p:spPr>
          <a:xfrm>
            <a:off x="6110280" y="3699000"/>
            <a:ext cx="1981080" cy="135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germany_noeagle_medium"/>
          <p:cNvPicPr/>
          <p:nvPr/>
        </p:nvPicPr>
        <p:blipFill>
          <a:blip r:embed="rId5"/>
          <a:stretch/>
        </p:blipFill>
        <p:spPr>
          <a:xfrm>
            <a:off x="6110280" y="1946160"/>
            <a:ext cx="1981080" cy="129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ITAL001"/>
          <p:cNvPicPr/>
          <p:nvPr/>
        </p:nvPicPr>
        <p:blipFill>
          <a:blip r:embed="rId6"/>
          <a:srcRect l="2756" t="4132" r="2756" b="5313"/>
          <a:stretch/>
        </p:blipFill>
        <p:spPr>
          <a:xfrm>
            <a:off x="6110280" y="5527800"/>
            <a:ext cx="198108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Line 10"/>
          <p:cNvSpPr/>
          <p:nvPr/>
        </p:nvSpPr>
        <p:spPr>
          <a:xfrm>
            <a:off x="3367080" y="4384800"/>
            <a:ext cx="304920" cy="0"/>
          </a:xfrm>
          <a:prstGeom prst="line">
            <a:avLst/>
          </a:prstGeom>
          <a:ln cap="sq" w="38160">
            <a:solidFill>
              <a:srgbClr val="e61f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5805360" y="2479680"/>
            <a:ext cx="0" cy="3657600"/>
          </a:xfrm>
          <a:prstGeom prst="line">
            <a:avLst/>
          </a:prstGeom>
          <a:ln cap="sq"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5500800" y="4384800"/>
            <a:ext cx="304560" cy="0"/>
          </a:xfrm>
          <a:prstGeom prst="line">
            <a:avLst/>
          </a:prstGeom>
          <a:ln cap="sq" w="38160">
            <a:solidFill>
              <a:srgbClr val="f0e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824280" y="3317760"/>
            <a:ext cx="1600200" cy="1981440"/>
          </a:xfrm>
          <a:prstGeom prst="irregularSeal1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8900000"/>
          </a:gradFill>
          <a:ln cap="sq" w="12600">
            <a:solidFill>
              <a:srgbClr val="ffffff"/>
            </a:solidFill>
            <a:miter/>
          </a:ln>
          <a:effectLst>
            <a:outerShdw dist="92928" dir="4386564" blurRad="0" rotWithShape="0">
              <a:srgbClr val="9966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3367080" y="2403360"/>
            <a:ext cx="0" cy="3657600"/>
          </a:xfrm>
          <a:prstGeom prst="line">
            <a:avLst/>
          </a:prstGeom>
          <a:ln cap="sq"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958000" y="1488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Germ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5881680" y="5070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t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1004760" y="1413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Great Brit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852480" y="33177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F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1081080" y="5070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Rus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5724360" y="324180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ustria-Hung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584280" y="905040"/>
            <a:ext cx="31240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cc"/>
                </a:solidFill>
                <a:uFillTx/>
                <a:latin typeface="Arial Unicode MS"/>
              </a:rPr>
              <a:t>Triple Entente</a:t>
            </a:r>
            <a:r>
              <a:rPr b="0" lang="en-US" sz="3200" spc="-1" strike="noStrike">
                <a:solidFill>
                  <a:srgbClr val="ff33cc"/>
                </a:solidFill>
                <a:latin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5578560" y="907920"/>
            <a:ext cx="30970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99"/>
                </a:solidFill>
                <a:uFillTx/>
                <a:latin typeface="Arial Unicode MS"/>
              </a:rPr>
              <a:t>Triple Alliance</a:t>
            </a:r>
            <a:r>
              <a:rPr b="0" lang="en-US" sz="3200" spc="-1" strike="noStrike">
                <a:solidFill>
                  <a:srgbClr val="00cc99"/>
                </a:solidFill>
                <a:latin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CA" sz="4400" spc="-1" strike="noStrike">
                <a:solidFill>
                  <a:srgbClr val="e3ebf1"/>
                </a:solidFill>
                <a:latin typeface="Arial"/>
              </a:rPr>
              <a:t>ationalis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ride and patriotism in on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 terms of WWI, nationalism became aggressive and subsequently (because of this) a major cause of international 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dependent nations desired dominance and prestige and as these powers tried to dominate each other in Europ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erious rivalry b/w France and Germany stemming from Franco-Prussian War (1871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rance wanted Alsace-Lorraine bac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CA" sz="4400" spc="-1" strike="noStrike">
                <a:solidFill>
                  <a:srgbClr val="e3ebf1"/>
                </a:solidFill>
                <a:latin typeface="Arial"/>
              </a:rPr>
              <a:t>mperialis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omination by one country over the political, economic, or cultural life of another country or 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ue to the Industrial Revolution of the 1800s, some European nations had a large portion of the world under their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3ebf1"/>
                </a:solidFill>
                <a:latin typeface="Arial"/>
              </a:rPr>
              <a:t>Imperialism and Colonial Rivalrie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fter 1870, the European nations began to acquire colonies in Asia, Africa and the Pacif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olonial rivalry le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strained relations among the European powers. In Africa, all the European powers except Austria and Russia had colonies there. Thus there were many clashes among France, Britain, Germany and Ital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he formation and strengthening of alliances and ententes. (indirect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an intensification of the arms ra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much hostility among the powe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16:12:59Z</dcterms:created>
  <dc:creator>L Templin</dc:creator>
  <dc:description/>
  <dc:language>en-US</dc:language>
  <cp:lastModifiedBy>temp</cp:lastModifiedBy>
  <dcterms:modified xsi:type="dcterms:W3CDTF">2014-02-10T13:59:42Z</dcterms:modified>
  <cp:revision>7</cp:revision>
  <dc:subject/>
  <dc:title>Causes of WWI</dc:title>
</cp:coreProperties>
</file>